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6ED5-40A9-4E0F-8869-B0F8EA35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ADDA-49EE-48BA-9F68-BCC00FE8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E655-5D9C-42E2-9B6F-E2351FBF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5863-2BBF-4A94-BECC-B648BDAE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A983-1084-4D8B-8B72-6BD9B819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BE2D-A341-4676-933D-5F9235B4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3994-398C-4ED1-9307-73C33F96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89F81-520E-47FF-B12A-3891A820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E912-1630-4344-884C-AC9963C3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8F18-08DC-4DBD-9FF0-A8B5B17C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12FD-5EB2-4E23-9021-11348526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FFCB-D72F-4BA5-8AA1-9B0CD6E4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FA2E-0B1A-4E9A-A640-D358CF6C63D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Current Events Ukraine: Protests, Problems, and Putin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e8d8c"/>
                </a:solidFill>
                <a:latin typeface="Calibri"/>
              </a:rPr>
              <a:t>News Media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e8d8c"/>
                </a:solidFill>
                <a:latin typeface="Calibri"/>
              </a:rPr>
              <a:t>Week 2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e8d8c"/>
                </a:solidFill>
                <a:latin typeface="Calibri"/>
              </a:rPr>
              <a:t>Sanda University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e8d8c"/>
                </a:solidFill>
                <a:latin typeface="Calibri"/>
              </a:rPr>
              <a:t>Eric Duffy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estern/Russian divide in Ukrain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Content Placeholder 3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Ukraine/Russian Marriag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2" name="Content Placeholder 3" descr=""/>
          <p:cNvPicPr/>
          <p:nvPr/>
        </p:nvPicPr>
        <p:blipFill>
          <a:blip r:embed="rId1"/>
          <a:stretch/>
        </p:blipFill>
        <p:spPr>
          <a:xfrm>
            <a:off x="457200" y="1622520"/>
            <a:ext cx="762012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Russia’s military in Ukrain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4" name="Content Placeholder 3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5791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urrent Protests in Ukrain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former/current President, Viktor Yanukovych , was seen as corrup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224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son of Ukrainian’s President “won” 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50 percent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 of all state contracts in January</a:t>
            </a:r>
            <a:br>
              <a:rPr sz="2000"/>
            </a:br>
            <a:r>
              <a:rPr b="0" lang="en-US" sz="900" spc="-1" strike="noStrike">
                <a:solidFill>
                  <a:srgbClr val="2f2b20"/>
                </a:solidFill>
                <a:latin typeface="Calibri"/>
              </a:rPr>
              <a:t>(http://www.politico.com/magazine/story/2014/02/statistics-that-explained-the-world-this-week-103783.html#ixzz2un6q5vCj)</a:t>
            </a:r>
            <a:endParaRPr b="0" lang="en-US" sz="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average monthly salary in Ukraine is $450 a month (</a:t>
            </a:r>
            <a:r>
              <a:rPr b="0" lang="en-US" sz="800" spc="-1" strike="noStrike">
                <a:solidFill>
                  <a:srgbClr val="2f2b20"/>
                </a:solidFill>
                <a:latin typeface="Calibri"/>
              </a:rPr>
              <a:t>http://knlive.ctvnews.ca/a-mansion-fit-for-a-tyrant-leader-inside-yanukovych-s-home-of-sports-cars-and-ostriches-1.1701779) </a:t>
            </a: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former President’s  house had  a hovercraft, a golf course, a helicopter pad, a yacht, sports cars, private restaurant, private zoo and ostrich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8" name="Content Placeholder 3" descr=""/>
          <p:cNvPicPr/>
          <p:nvPr/>
        </p:nvPicPr>
        <p:blipFill>
          <a:blip r:embed="rId1"/>
          <a:stretch/>
        </p:blipFill>
        <p:spPr>
          <a:xfrm>
            <a:off x="512640" y="1828800"/>
            <a:ext cx="6942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0" name="Content Placeholder 3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2" name="Content Placeholder 3" descr=""/>
          <p:cNvPicPr/>
          <p:nvPr/>
        </p:nvPicPr>
        <p:blipFill>
          <a:blip r:embed="rId1"/>
          <a:stretch/>
        </p:blipFill>
        <p:spPr>
          <a:xfrm>
            <a:off x="1409760" y="1886040"/>
            <a:ext cx="57150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Content Placeholder 3" descr=""/>
          <p:cNvPicPr/>
          <p:nvPr/>
        </p:nvPicPr>
        <p:blipFill>
          <a:blip r:embed="rId1"/>
          <a:stretch/>
        </p:blipFill>
        <p:spPr>
          <a:xfrm>
            <a:off x="2209680" y="0"/>
            <a:ext cx="38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Ukraine and the E.U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krainians in the West of the country wanted to join the European Unio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ut Russian influence and become more like Europ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resident agrees to sign agreement with the E.U. in late 2013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wever, instead the President  accepts over $15,000,000,000 from Russi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itizens believe Russia is trying to buy influence in Ukrain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 late 2013 Ukrainian citizens start to protest against the government citing corruption , Russian influence in Ukraine, and closer ties to the E.U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Video 1- RTV: Vocabular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stermi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up d'ét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uel to the fir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pontaneou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rovocateu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ass Outlin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rief History of Ukrain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Overview of last 2 months in Ukrain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Video- Protests in Ukrain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Vocabulary from video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Comprehension questions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Class discussion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ussian TV video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Vocabulary from video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Comprehension questions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Class discussion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ussia invades Ukraine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Vocabulary from video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mprehension questio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lass discuss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mprehension Questio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w many protestors were in the squar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100 B. 1,000 C. 1,000,000 D. unknow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at did the president promise to the peaceful protesters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 . New government B. not to be touched by security C. money D. zoo anima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en did the protesters say that would leave the protests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when Ukraine joins the E.U.     B. when the president apologizes     C. when the president and the government steps down   D. Nev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es President Putin of Russia think of the protests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he supports them B. He thinks they are not spontaneous C. He believes it is about the E.U.   D. He doesn’t car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ass Discussio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at is the tone of the video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 you think the video is bias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video is from Russian T.V. does that change your opinion of what it says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has happened since Friday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President of Ukraine left the capital and fled to Russi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government of Ukraine  impeached him and sought to arrest hi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government formed a caretaker government and set new elections for May 25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rmer President claims he is still the president and was forced out of Ukraine by thugs and a coup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e asks Russia for help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o there are two Presidents of Ukraine and the country is divided between the old President (and Russia) and the new government (the protesters and Western world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Russia invades Ukraine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96" name="Content Placeholder 3" descr=""/>
          <p:cNvPicPr/>
          <p:nvPr/>
        </p:nvPicPr>
        <p:blipFill>
          <a:blip r:embed="rId1"/>
          <a:stretch/>
        </p:blipFill>
        <p:spPr>
          <a:xfrm>
            <a:off x="1362240" y="2019240"/>
            <a:ext cx="5810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Russia invades Ukraine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eb 26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Russian troops near border with Ukraine are put on alert and drilled for "combat readiness"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eb 27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Pro-Russian armed men seize government buildings in Crimea (Southern Ukrain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ebruary 28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- Soldiers with Russian license plates enter Crimea and take control of the airport and government building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Russia invades Ukraine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ussian parliament votes to allow Russian troops to enter Ukrain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Voted stated that the Russian military could be deployed "on Ukrainian territory"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ussia's Black Sea Fleet (Russian Navy) is in Crimea alread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ussia has a sea base ther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ports of 15,000 Russian troops have joined Russia’s other soldiers in Crime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wo Russian warships are in the water near Crime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2" name="Content Placeholder 3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2724120" cy="167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5257800" y="4243320"/>
            <a:ext cx="2809800" cy="162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4"/>
          <a:stretch/>
        </p:blipFill>
        <p:spPr>
          <a:xfrm>
            <a:off x="838080" y="4214880"/>
            <a:ext cx="2857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rime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rimea used to be part of Russi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1954 became part of Ukrain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urrently 59% of population is ethnic Russian while only 25% of the population is Ukraini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365120" y="3505320"/>
            <a:ext cx="59436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10" name="Content Placeholder 3" descr=""/>
          <p:cNvPicPr/>
          <p:nvPr/>
        </p:nvPicPr>
        <p:blipFill>
          <a:blip r:embed="rId1"/>
          <a:stretch/>
        </p:blipFill>
        <p:spPr>
          <a:xfrm>
            <a:off x="299880" y="1295280"/>
            <a:ext cx="7597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rime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o is Russia invading Ukraine? Or just making sure its soldiers, citizens, and supporters are saf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 large part of the East of Ukraine want closer ties to Russia, not the E.U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s part of the country still supports the former President and did not join in the protes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48" name="Content Placeholder 3" descr=""/>
          <p:cNvPicPr/>
          <p:nvPr/>
        </p:nvPicPr>
        <p:blipFill>
          <a:blip r:embed="rId1"/>
          <a:stretch/>
        </p:blipFill>
        <p:spPr>
          <a:xfrm>
            <a:off x="372960" y="304920"/>
            <a:ext cx="778032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Video 2: Friday PB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at time did the soldiers arrive?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10pm B. 11PM  C. 12 AM D. 10 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at happened to the air space over Crimea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it was open   B. it was closed   C. it remained the same D. noth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at country did Russia go to war with in 2008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Ukraine B. China C. Georgia D. Afghanista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w did Secretary Kerry speak to the Russian Foreign Minister?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on TV  B. in a speech  C. email   D. Phon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y did the former President say he left Ukrain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afraid he would die B. because the U.S.A. told him C. to move to Russia D. he wanted a vac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Video 3: Crimea Vocabular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Kick ou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rm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eg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verag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tertwin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ill arou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istening Comprehension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w many armed men are in the building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100 B. 60 C. 1,000 D. 600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at does fully armed mean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you have two arms  B. you can’t see your arm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. You have a lot of guns on you  D. you are in the militar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at do the Crimean people want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to support the government  B. join the E. U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. Join Russia   D. Have a new govermen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y can’t the new Ukraine government stop what is happening in Crimea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Video 4 vocabular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f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scal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ilitary convo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uthoriz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row down the gauntl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terren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Video 4 Listening comprehens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w long after Obama’s speech did Russia authorize troops into Ukrain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half a day B. one week C. 24 hours D. at the same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at did Russia do in response to Obama’s speech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withdrew its U.S. ambassador B. sent Obama a lett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. called Obama   D. noth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w much aid is the U.S. and the E.U. offering to Ukrain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15 MILLION B. 15 BILLION c. 1 BILLION D. 150 MILL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at is one response the U.S. could take to stop Russia in Ukrain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sanctions B. Refuse to attend g-8 Summit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. military action D. all of the above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Referenc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ttp://www.bbc.com/news/world-europe-18010123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ttp://www.aljazeera.com/news/europe/2014/03/timeline-ukraine-political-crisis-201431143722854652.htm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ttp://www.bbc.com/news/world-europe-26388057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Homewor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atch the video about Nazi hunters posted on the website. You are expected to watch from 8:28 to 16:41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reated 3-5 comprehension question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s questioned will be given to another student next cla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Brief History of Ukrain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921- The Soviet Union (USSR) occupies 2/3 of Ukrain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930s- Millions of Ukrainians die due to policies, deportations, and executions ordered by Joseph Stalin (leader of the USSR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uring World War II, Ukraine is occupied by the Nazis. Millions of Ukrainians di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fter World War II, Western Ukraine is taken by the USS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kraine becomes a satellite state of the Soviet Un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986 Chernobyl nuclear power station explod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Brief History of Ukrain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990- Student protests help bring down the government*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991- After the fall of the Berlin Wall and the collapse of the USSR, 90%  of Ukrainians vote for independence in a nationwide referendum in Decembe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3" name="Picture 3" descr="is (2).jpg"/>
          <p:cNvPicPr/>
          <p:nvPr/>
        </p:nvPicPr>
        <p:blipFill>
          <a:blip r:embed="rId1"/>
          <a:stretch/>
        </p:blipFill>
        <p:spPr>
          <a:xfrm>
            <a:off x="3048120" y="3740040"/>
            <a:ext cx="2359080" cy="311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is (1).jpg"/>
          <p:cNvPicPr/>
          <p:nvPr/>
        </p:nvPicPr>
        <p:blipFill>
          <a:blip r:embed="rId2"/>
          <a:stretch/>
        </p:blipFill>
        <p:spPr>
          <a:xfrm>
            <a:off x="5257800" y="2743200"/>
            <a:ext cx="2948040" cy="227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is.jpg"/>
          <p:cNvPicPr/>
          <p:nvPr/>
        </p:nvPicPr>
        <p:blipFill>
          <a:blip r:embed="rId3"/>
          <a:stretch/>
        </p:blipFill>
        <p:spPr>
          <a:xfrm>
            <a:off x="152280" y="3124080"/>
            <a:ext cx="29257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Orange Revolu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ssive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peaceful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rotests in 2004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ue to election frau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kraine holds a new vote and elects a new presid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peaceful revolution brings a feeling of hope, freedom, and democracy to Ukrain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011400" y="4971960"/>
            <a:ext cx="2581200" cy="1771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5257800" y="3124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5592600" y="5038560"/>
            <a:ext cx="2676600" cy="170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4"/>
          <a:stretch/>
        </p:blipFill>
        <p:spPr>
          <a:xfrm>
            <a:off x="152280" y="5067360"/>
            <a:ext cx="28861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Russia’s involvement in Ukrain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nce Ukraine’s independence, Russia has  maintained influence and power inside Ukrain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Occasionally Russia stops gas going into Ukrain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ussia wants Ukraine to remain outside the E.U. and American influenc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 large percentage of Ukrainian’s speak Russian and hold positive views of Russia and Puti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In the Last 100 year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ussia has remained influential in Ukraine and views Ukraine as important to Russia’s futur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ew Globa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oll, 2009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3360600" cy="37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8" name="Content Placeholder 3" descr=""/>
          <p:cNvPicPr/>
          <p:nvPr/>
        </p:nvPicPr>
        <p:blipFill>
          <a:blip r:embed="rId1"/>
          <a:stretch/>
        </p:blipFill>
        <p:spPr>
          <a:xfrm>
            <a:off x="189000" y="304920"/>
            <a:ext cx="8045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2T07:28:39Z</dcterms:created>
  <dc:creator>eduffy25</dc:creator>
  <dc:description/>
  <dc:language>en-US</dc:language>
  <cp:lastModifiedBy>teacher</cp:lastModifiedBy>
  <dcterms:modified xsi:type="dcterms:W3CDTF">2014-03-03T04:28:45Z</dcterms:modified>
  <cp:revision>29</cp:revision>
  <dc:subject/>
  <dc:title>Current Events Ukraine: Protests, Problems, and Putin</dc:title>
</cp:coreProperties>
</file>